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38C-5B2D-4BB0-BEAC-8B05C561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734-7FDA-4400-9C13-1F70A67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15D-9319-48D7-8AE6-6A764C7E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BB4-195C-4283-9D6A-BDB225F5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CD60-9607-47E1-85E9-997087CC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37FA-EDD3-463D-8CD9-E64F3FD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81FB-A6B7-4636-B8DA-DA47863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026-F852-4276-A4F2-4D9D544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856-CE39-4827-8F71-F853297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F9B-203B-4A1B-958A-88371895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1E2C-4EDB-474F-899E-2963B5B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4F7-1E43-4809-94F1-ED6F270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8E5-504D-4BAE-BBB1-9FED759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04CD-84A5-491C-A0B5-E268B36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A32-60E8-4183-B32B-6AE0735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8EC5-B752-417C-8666-BDCBE8F2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3FC5-228A-411D-870C-BCD1373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136-1DCF-43AB-8434-86E8F4D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A43-322C-4277-8978-CF4F0A1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3D7-1FD4-4082-8FF8-12A62B6D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849-6337-49BF-8C9C-B46AC1D6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280-75B8-485F-A5CC-7C4E608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E59-26AE-4D96-8619-B8E262F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FAB-1B84-4161-8873-49CAB04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64D-88C7-4512-8D16-11C9B819B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F409-EE4F-40E7-B49E-F4504D2DD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French Revolu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ca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ational Conven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illian Robespie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32200" y="1828800"/>
            <a:ext cx="364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ational Conven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a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3809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Trial &amp; Execution of Louis XVI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d over 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s of civil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876400"/>
            <a:ext cx="3809880" cy="23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Death of Mar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92480" y="1676520"/>
            <a:ext cx="497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tate of Emergency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ee for Public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mies of th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or is a Virt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ials - just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 the Wars - home and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at powers should the government have in times of emergency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ore important - the rights of the individual of our collective need for security and safet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LQ Crisis in Canada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easure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9/11 &amp; the “War on Terror”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Patrio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ertificates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ergencies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what circumstances should the government be allowed to suspend your ri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r would you take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g. - Is torture ever justifi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isonment without tr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 rights or Collective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verview of Phas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volution is a full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egislative Assembly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87680" y="1828800"/>
            <a:ext cx="5767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House of Common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43040" y="1828800"/>
            <a:ext cx="58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uil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oderates who supported the constitutional monarchy, many n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o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Extremist republicans who wanted to extend the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delliers, Girondins, &amp; other smaller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rance’s Problem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hing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, hungr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d Coun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power vs new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W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was losing = poor people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operative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and Assembly not coope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Musical Chair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parties reposition themselves in order to gain popularity with vo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93 that meant being more ext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solutions to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opposition to th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ouis the Letter-writer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letters to foreign monarchs encouraging them to go to war against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rucial to understanding why the Legislative Assembly phase ends and the radical phase be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light of the Roya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tries to flee with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ed and moved to palace at Tui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1793 - attack on the Roy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deposed as King, arr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stitution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ctions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obins win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0:33:43Z</dcterms:created>
  <dc:creator>Greg Peters</dc:creator>
  <dc:description/>
  <dc:language>en-US</dc:language>
  <cp:lastModifiedBy>Greg Peters</cp:lastModifiedBy>
  <dcterms:modified xsi:type="dcterms:W3CDTF">2011-02-22T02:25:41Z</dcterms:modified>
  <cp:revision>1</cp:revision>
  <dc:subject/>
  <dc:title>The French Revolution</dc:title>
</cp:coreProperties>
</file>